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22416"/>
        <c:axId val="91723590"/>
      </c:barChart>
      <c:catAx>
        <c:axId val="644224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23590"/>
        <c:crosses val="autoZero"/>
        <c:auto val="1"/>
        <c:lblAlgn val="ctr"/>
        <c:lblOffset val="100"/>
        <c:noMultiLvlLbl val="0"/>
      </c:catAx>
      <c:valAx>
        <c:axId val="917235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224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495E-0750-4B8B-8573-69AD8A3C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A03-B95B-4017-A47E-63B1B073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66F-E4E6-441C-B8DB-7558FAC7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0E0C-302B-4D91-A2E6-F2281C8C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F94-A387-4A5D-BCE2-D85ACD12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5A5-BA91-4B6C-8FC4-FBF886DA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FC66-9B76-4AF2-B91E-504996E4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E420-E1FE-40C1-AFF9-03EF4F6F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D24-FF26-4113-A845-75E25628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087-FE4B-4270-90AF-12B442FF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F9D-9ECF-4198-9082-FD1DEA7C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B98-6383-46F6-AF15-A394E05C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69452-628D-40CD-8861-3972756517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