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6931"/>
        <c:axId val="96946072"/>
      </c:barChart>
      <c:catAx>
        <c:axId val="8296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46072"/>
        <c:crosses val="autoZero"/>
        <c:auto val="1"/>
        <c:lblAlgn val="ctr"/>
        <c:lblOffset val="100"/>
        <c:noMultiLvlLbl val="0"/>
      </c:catAx>
      <c:valAx>
        <c:axId val="96946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6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182-3CC6-4914-98FD-5508F0F8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77B-5478-4F35-B663-2C8D1065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CFE-465E-4988-86C2-BBF6E69A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1FA-36FA-4513-8A0A-D7244022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B6D-4191-4AF9-9FB9-3CC7CE2F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E24-C72A-4182-ADFF-6BEBD09F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1E8-CB18-45BA-8250-348FFD2F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204-4059-478F-96F4-590D285D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FD7-1371-4D35-A9AA-F7633DD5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381-09E8-4953-90BA-658CDDF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57C-77BA-4783-985D-B8E8F0CE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FEC-FBC3-4FEF-B098-BD34E4A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77F91-7D17-4955-B43F-D899D83340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