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60280"/>
        <c:axId val="24182276"/>
      </c:barChart>
      <c:catAx>
        <c:axId val="55602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182276"/>
        <c:crosses val="autoZero"/>
        <c:auto val="1"/>
        <c:lblAlgn val="ctr"/>
        <c:lblOffset val="100"/>
        <c:noMultiLvlLbl val="0"/>
      </c:catAx>
      <c:valAx>
        <c:axId val="241822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602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E588-AF16-4BF6-A9E6-76219025C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518C-17E7-430A-98BF-C00B10A1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C00C-34ED-4B3C-953F-22D6B6FBC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74F2-1CA7-449B-A52D-93C485B1D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EA0D-9CCE-4CBE-8F0E-CE85F03A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1D32-37E9-4548-AA7C-AB2D6CCF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5C13-5C7E-4279-AC1E-AB7DB3A0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E761-C974-4EE9-9B7A-A74DBFA0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0C81-3A1F-43E1-90BF-CBDB615D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536B-1EA3-475A-9C4C-54F579EA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3C69-50B7-4C35-9871-14DBF960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5841-24BB-41F3-B60E-36702423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508D4-7E7D-4A81-8302-53A59DEC99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