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83129"/>
        <c:axId val="55366601"/>
      </c:barChart>
      <c:catAx>
        <c:axId val="70183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66601"/>
        <c:crosses val="autoZero"/>
        <c:auto val="1"/>
        <c:lblAlgn val="ctr"/>
        <c:lblOffset val="100"/>
        <c:noMultiLvlLbl val="0"/>
      </c:catAx>
      <c:valAx>
        <c:axId val="55366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3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9B8-B22E-44CF-BE47-2E92D74F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C05-3881-4A91-AAA1-49C644E2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ED0-438D-43C6-BE1E-A1783FA6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A68-99EC-473A-9F9E-98BD6205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FDF-7896-458F-9BB3-E56D3698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7D3-3A65-44EE-B046-0892D6CD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D64-874F-4A26-8559-28C0FB6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41B-8B77-4855-A68D-D19F4973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E7E-CE57-49E2-953A-DB82F3F2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BAE-A7DF-4B55-8D4E-DA5C3447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482-E7EA-49EA-A7E0-A7C0F0F3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E0A-6858-41FB-81A9-418CB097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1F25D-0011-447E-BFD6-FA888BEEDF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