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56586"/>
        <c:axId val="52934698"/>
      </c:barChart>
      <c:catAx>
        <c:axId val="23956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34698"/>
        <c:crosses val="autoZero"/>
        <c:auto val="1"/>
        <c:lblAlgn val="ctr"/>
        <c:lblOffset val="100"/>
        <c:noMultiLvlLbl val="0"/>
      </c:catAx>
      <c:valAx>
        <c:axId val="52934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56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6B3-F6E7-4949-BB1E-12EF6D6E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06E-3D58-4FCB-8F6C-E8C1A2E6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067-0533-4A76-8D37-76A6A190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16A-572A-44B8-A68B-827DF9BB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9CD-9C85-4B55-874E-FAA69BC2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D51-FA36-4A3C-B8B0-5EBA021C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980-1889-4346-9FF7-E89E05CA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1F0-7DCE-4BF7-A7B9-773FDC8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0FF-B422-4A30-929A-E36CCE36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78D-D9A7-40CF-B700-C8EE51F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2C6-DA23-46A1-89D7-A52C6EE0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B98-C737-4624-9B4A-D4AE6967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977B7-FE3F-4ED8-AB0F-01B02B7107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