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53127"/>
        <c:axId val="15947642"/>
      </c:barChart>
      <c:catAx>
        <c:axId val="465531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47642"/>
        <c:crosses val="autoZero"/>
        <c:auto val="1"/>
        <c:lblAlgn val="ctr"/>
        <c:lblOffset val="100"/>
        <c:noMultiLvlLbl val="0"/>
      </c:catAx>
      <c:valAx>
        <c:axId val="15947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531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EC49-4CB2-46CA-80AD-26E6D00B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1CD-5D55-476F-9218-E34D753C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426-48E1-4C1E-AC8C-F4C3F1B2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F8B7-B2C5-42ED-AA53-02C0BEE5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2220-BF14-4E07-9924-BB6BE1CB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2DC7-14C6-41F4-BBBA-5C248CF1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080-761A-4BE4-9F44-D9FD8D2A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C63-7258-403E-996E-54D04251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549-1552-4592-9C5E-4915FF42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BB3C-C9C2-4BBB-814F-90B418B1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F774-B861-487D-A134-AE477009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486-BDFB-464A-A3B0-6348AA07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E1392-69C1-46D9-91C1-2B01E8EFEA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