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08114"/>
        <c:axId val="72054701"/>
      </c:barChart>
      <c:catAx>
        <c:axId val="246081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54701"/>
        <c:crosses val="autoZero"/>
        <c:auto val="1"/>
        <c:lblAlgn val="ctr"/>
        <c:lblOffset val="100"/>
        <c:noMultiLvlLbl val="0"/>
      </c:catAx>
      <c:valAx>
        <c:axId val="720547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081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316-FEE3-4D99-ABA1-35AC8549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269-C9F8-407B-B48F-65C91932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07A-B323-4E57-B857-0D0AA764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47F-8010-43B2-AA77-BD1FD759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EB4-B321-4B48-AAAF-3C8621FE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4A1-E62E-4627-8800-D2058A8A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CEA-DAFC-45EF-A554-3BCF74AE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5A0-FF11-4249-88F7-8B505EA3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646-AA87-4070-ACB5-DADE2167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E377-EE22-41F0-925F-BAE1785C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C08D-BFBF-4F10-A418-EFF4134D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EB8C-C52A-4E62-B06E-B075BB45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9068C-72AC-45BE-8D16-F1E16E3733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