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29187"/>
        <c:axId val="33736620"/>
      </c:barChart>
      <c:catAx>
        <c:axId val="515291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36620"/>
        <c:crosses val="autoZero"/>
        <c:auto val="1"/>
        <c:lblAlgn val="ctr"/>
        <c:lblOffset val="100"/>
        <c:noMultiLvlLbl val="0"/>
      </c:catAx>
      <c:valAx>
        <c:axId val="33736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291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D00-B484-4E83-942E-DBD224AB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A37-1228-4F9C-BC87-13B9C79D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79C-38DB-4E83-AD69-C2CB3557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1998-650D-4E09-AA0E-86A5A30C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35D-9441-472C-8BBD-D50C486F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5B92-7ECB-4548-B930-C411F2C3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765-2E0B-40D4-A898-86168A04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BFEE-04FB-4126-842E-DC910344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AB79-129C-476C-9A93-CE55B3B2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EE5-8FD1-45F6-B781-036E5CD5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E75-0ADE-40A0-86C8-11869148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69E-9762-4CB8-9654-64B8493E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17303-1B49-459E-BB6D-8D3A758461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