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43104"/>
        <c:axId val="6570919"/>
      </c:barChart>
      <c:catAx>
        <c:axId val="91043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0919"/>
        <c:crosses val="autoZero"/>
        <c:auto val="1"/>
        <c:lblAlgn val="ctr"/>
        <c:lblOffset val="100"/>
        <c:noMultiLvlLbl val="0"/>
      </c:catAx>
      <c:valAx>
        <c:axId val="6570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43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0716-EC4F-4CEC-8AD5-93374EC1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7F8-137D-492E-9919-8320CE00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111D-3292-4C00-8DEB-D60A10B4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A785-E14A-431A-86B7-F082F2DA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D1F-94A0-4E22-9CC6-66681093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B89-CFAF-43B5-B426-0B8D734B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3AE-450E-4821-8551-5892E640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445-3B3C-42DC-9D74-D7C42D3A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62F-5A67-468E-A7F1-D037999D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4C5-CAB1-4ABC-B674-CCBD7E64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1B43-3F08-4A4A-91BB-35584CEF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9041-EFCE-47F1-AC8F-104C18A2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F955F-451E-4F41-BD75-0499655F7E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