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93442"/>
        <c:axId val="60431169"/>
      </c:barChart>
      <c:catAx>
        <c:axId val="37934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31169"/>
        <c:crosses val="autoZero"/>
        <c:auto val="1"/>
        <c:lblAlgn val="ctr"/>
        <c:lblOffset val="100"/>
        <c:noMultiLvlLbl val="0"/>
      </c:catAx>
      <c:valAx>
        <c:axId val="604311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34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D7B7-CF8D-433D-9074-1AA8657B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77F5-D8D0-48A0-AD6C-940810D0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9737-5FD6-42AD-B080-4CC3CF5B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13BE-1287-42F6-A43D-CC4DDF58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02EC-B7C0-48CB-85E8-E915F45B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CD55-9FB9-4DA0-AD27-06146F46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819B-98AF-4C3D-93C0-2AD014C8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9B92-1017-4FCC-9EEB-CE2BD3BC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06CC-2AD7-47E6-959D-69FE98E8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8BC1-2FD9-4349-964F-B8DDD30D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67AB-86A3-47B9-85CF-732FA2CB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EB92-7709-4340-A351-9DF041B9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51485-5591-4C8B-AE38-E663880839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