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24204"/>
        <c:axId val="73360068"/>
      </c:barChart>
      <c:catAx>
        <c:axId val="69424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0068"/>
        <c:crosses val="autoZero"/>
        <c:auto val="1"/>
        <c:lblAlgn val="ctr"/>
        <c:lblOffset val="100"/>
        <c:noMultiLvlLbl val="0"/>
      </c:catAx>
      <c:valAx>
        <c:axId val="73360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24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624-6C3A-4781-B755-129E614F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BE9-B12F-4AD9-B6E0-21BE3F21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880-AB82-4C2B-9EBD-4957C1CA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1DA-B3B2-4BD9-8107-C72C9D54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F5F-7E93-4279-8BA9-BC84915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2DC-07FA-4251-977E-2600E122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139-DB3A-4436-89C7-1B5E017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398-C32A-4ECD-ACFA-97FE87FF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EB5-B4E4-43DC-8C93-1B2381B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8F5-1E9A-476B-8E9F-EFAE7C0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2BA-9DC9-48C9-8B96-72D62F5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EA2-5882-4352-8C6F-F59D0D5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0B24-ED52-4776-A23C-0F6B29CB9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