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117515"/>
        <c:axId val="45362647"/>
      </c:barChart>
      <c:catAx>
        <c:axId val="591175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2647"/>
        <c:crosses val="autoZero"/>
        <c:auto val="1"/>
        <c:lblAlgn val="ctr"/>
        <c:lblOffset val="100"/>
        <c:noMultiLvlLbl val="0"/>
      </c:catAx>
      <c:valAx>
        <c:axId val="453626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1175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CE0-F9DE-43B9-B233-FFD8742BC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1C2-795F-45BB-9868-C54B1B46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8BC4-ABCC-415F-8F83-A6DAD0E8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7A35-9BBC-4928-B7A3-F6C2DDB8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30DE-418E-4C13-832A-AF63F694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FA6-8B9E-417C-B817-3B09E67F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F251-DBDA-412F-9D50-E550AB9DD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D04D-6E04-46D5-B394-61EC352B6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4446-FC4A-4F63-8295-B79C126E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9DB8-E359-4245-972A-E776C701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C2F-5AAE-4D04-9500-F894BC5E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8825-EF9A-4412-B38C-5A97493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C7EC-39BC-4A49-9F9F-8563D94B0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