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53724"/>
        <c:axId val="87301892"/>
      </c:barChart>
      <c:catAx>
        <c:axId val="27353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01892"/>
        <c:crosses val="autoZero"/>
        <c:auto val="1"/>
        <c:lblAlgn val="ctr"/>
        <c:lblOffset val="100"/>
        <c:noMultiLvlLbl val="0"/>
      </c:catAx>
      <c:valAx>
        <c:axId val="87301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53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B48-E1D1-4267-BCD4-C3F5FC0B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704-8F56-4AC0-A77A-1F58DECD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6707-BAE6-4540-AEEE-606DA80E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589-19F8-4A7B-833B-9F6543FD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BB92-34C3-4CBD-ABBB-A6C16A38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38D-BE48-4E2D-85F6-ED913630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84D-724A-434F-BAED-3ED9AE31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431-9E7C-49B7-B992-7623E612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4AF-23A6-4DE2-A113-68419C5E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E38-9EFD-45C6-B805-2CF2B2CC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D6B-88E8-4D9D-ADD2-EC6AC648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9DC-9E37-483C-AD8D-C500FF30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ED688-45AD-4BC1-80C1-2456D1F894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