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1296"/>
        <c:axId val="37066149"/>
      </c:barChart>
      <c:catAx>
        <c:axId val="56151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66149"/>
        <c:crosses val="autoZero"/>
        <c:auto val="1"/>
        <c:lblAlgn val="ctr"/>
        <c:lblOffset val="100"/>
        <c:noMultiLvlLbl val="0"/>
      </c:catAx>
      <c:valAx>
        <c:axId val="37066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1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5C2-DBB2-43A4-A3DE-33F02FE8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06B-B1C7-42DD-8E5E-E8237CC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F69-574C-4B80-83AC-7BC02138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4D6-5E91-4203-A7F9-3A734FFF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347-2A9D-44F7-BC78-042D1429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DDC-F045-474C-BE32-8C3E3639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E0F-F032-451F-B01C-B57F639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4FE-3F0F-4569-B2CD-790A439B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2BF-D5F8-4D96-BD64-4DF89CE2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38E-9348-47D3-81CE-89E47A0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F7C-7EDA-43A2-9FC2-76D882E1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FA0-6266-42DD-BED9-6EACE41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3E2BB-83BA-40CB-A6D6-EBBF38776F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