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1669"/>
        <c:axId val="96603629"/>
      </c:barChart>
      <c:catAx>
        <c:axId val="73641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03629"/>
        <c:crosses val="autoZero"/>
        <c:auto val="1"/>
        <c:lblAlgn val="ctr"/>
        <c:lblOffset val="100"/>
        <c:noMultiLvlLbl val="0"/>
      </c:catAx>
      <c:valAx>
        <c:axId val="96603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1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4A2-C7D9-4BE4-A246-FC43E77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AF7-5043-410E-839A-ACDEDF1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5B3-A499-4308-B2B6-2FF45EC9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630-9997-4F0F-842F-AFB918EF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002-E96C-485B-B0D6-5FE39B90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24B-EDBE-4599-B796-1BE54D32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D44-6C25-499E-AFAF-0508785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761-5DF4-4017-8ADD-D32EAE26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2DA-169A-4ABD-91DE-F91E828D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37A-FBA0-479B-879A-88C7370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D83-5432-4DCE-ADB9-A676C50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6E7-9D1D-44A3-AFFD-C5688A9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883FE-B6A1-4F7B-A92B-B751B8697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