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71998"/>
        <c:axId val="33649574"/>
      </c:barChart>
      <c:catAx>
        <c:axId val="34471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49574"/>
        <c:crosses val="autoZero"/>
        <c:auto val="1"/>
        <c:lblAlgn val="ctr"/>
        <c:lblOffset val="100"/>
        <c:noMultiLvlLbl val="0"/>
      </c:catAx>
      <c:valAx>
        <c:axId val="33649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71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A0C-03B7-42AB-A274-3811F40B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378-3242-4110-8056-F7ACB05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EA7-8784-4695-ADAC-0A782424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68A-6856-4C0E-8190-EE63ACB2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269-666B-460D-AAD1-80F57646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E78-79AC-4931-B9D8-51B5788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83F-289B-4B69-861D-2D9A070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4AD-4FD9-4A74-9A7D-4FF3806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7AA-EC4C-488F-98CE-5A43AF9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1D6-9751-4B2F-BE74-1B5B258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949-7513-4770-B190-EDF8106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5EA-F615-425E-90F6-B684C12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53296-873F-4FB4-8568-2485256E13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