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88075"/>
        <c:axId val="48624293"/>
      </c:barChart>
      <c:catAx>
        <c:axId val="30688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24293"/>
        <c:crosses val="autoZero"/>
        <c:auto val="1"/>
        <c:lblAlgn val="ctr"/>
        <c:lblOffset val="100"/>
        <c:noMultiLvlLbl val="0"/>
      </c:catAx>
      <c:valAx>
        <c:axId val="48624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88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EAD-6518-4F3A-80AF-784402D1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832-D34C-4CDC-81FF-768FE604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2BC-906C-4361-A8BB-EA0AAF42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CCB-C9AB-457B-8D76-F1415C02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F83-0EBD-41A8-BE2B-FD3ECE2F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C31-6B37-4000-80F9-C57A48CA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AA4D-598D-49EA-A699-DF8A939A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161-5159-401D-8121-B91FA83B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7A5-A565-499E-9640-B0EC1B15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CDD-DD21-4A19-A81E-70F837A1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567-920E-4E6C-A63F-F652CAB5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88E-6CDA-4852-A209-BC13991D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8E008-CCC7-4365-8FCF-4A32BDB7FD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