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8566"/>
        <c:axId val="47605896"/>
      </c:barChart>
      <c:catAx>
        <c:axId val="4399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5896"/>
        <c:crosses val="autoZero"/>
        <c:auto val="1"/>
        <c:lblAlgn val="ctr"/>
        <c:lblOffset val="100"/>
        <c:noMultiLvlLbl val="0"/>
      </c:catAx>
      <c:valAx>
        <c:axId val="47605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A3C-6CE8-4080-8D2E-DF22CAC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373-89FC-416B-9299-FFF1F216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09B-C44B-415F-BA1F-3A5CD933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F83-4678-4C3F-A866-B176AFDE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C8D-68CC-4027-BDFC-C07F9FAF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826-FB56-4F95-9FA1-C752468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617-71E6-45DC-972A-1FF3F0B6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B8F-638F-47F7-8DDD-06A95FF0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020-B568-4944-9DB8-00B76CB6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9C3-4D9C-4ED5-9FBC-371E6A18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B87-A70B-406C-A949-B529FC40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661-5DE5-4581-B637-32C299C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B6C2-3D4B-4F59-8ABB-CC2485977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