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31635"/>
        <c:axId val="84321120"/>
      </c:barChart>
      <c:catAx>
        <c:axId val="78631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1120"/>
        <c:crosses val="autoZero"/>
        <c:auto val="1"/>
        <c:lblAlgn val="ctr"/>
        <c:lblOffset val="100"/>
        <c:noMultiLvlLbl val="0"/>
      </c:catAx>
      <c:valAx>
        <c:axId val="843211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31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93F5-4801-4B75-890D-01245E25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4F4-7D1E-4E40-9D83-A71FD6C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C87-C3A1-4CD9-9B7D-AB699F71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915-5133-4581-B316-0513B080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1CC-3052-4D89-941A-C3012945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758-8653-4F9D-95BF-8D8EDFDC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593-BEF9-412C-ABD1-0049D267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952-B11B-4B7F-BA1C-1405D1F8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220-F6FE-4127-924A-1C1DC1C9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B3C-E507-47A3-B385-5A22E93F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F705-70E9-435D-B1E7-E5A9037F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8DD-394E-4388-B3D3-45D286ED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8451D-7E77-4DF0-9EF0-FEC210539B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